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2CA-84DC-45C1-8156-16E0F3EA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686-5D7A-4430-8E37-419F953D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AEA-9BF0-425B-9816-FD69F781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15E-154D-4F34-8D17-621D857D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9C9-A810-4E87-B714-53ABC26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A96-B51A-45D9-904A-3A0FBF30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B1C-5F2D-4348-9256-8E94A743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269-ED0D-40C7-B648-C90215F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F13-E507-43F9-9AF4-3B24CDE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601-9313-4C18-B9C4-FEDBFD9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02C-6FA4-4E23-8A30-F1D03A0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67C-856D-49EE-898B-76244557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5FCC-36BB-4DE7-B263-A762E4621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wyoming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wyoming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flags/wyoming/wyomingflag.s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nchantedlearning.com/usa/states/wyomi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jewelrymall.com/cgibin/xlinker.cgi?loc=120&amp;lf=120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jewelrymall.com/stones/jade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0803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fermi.jhuapl.edu/states/maps1/wy.gi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02920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P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333" t="9376" r="21878" b="9376"/>
          <a:stretch/>
        </p:blipFill>
        <p:spPr>
          <a:xfrm>
            <a:off x="0" y="0"/>
            <a:ext cx="9144000" cy="4919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in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502920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ol: Chey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453,588 in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July 10th, 18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: 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q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Equality State/Cowbo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Indian Plant Brush (castilleja linariaefo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Western Meadow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Wy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large prairi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Interesting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ate that gave the right for women to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 gemstones are found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wn governed entirely by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520"/>
            <a:ext cx="6638760" cy="491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5181480"/>
            <a:ext cx="6019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4760"/>
            <a:ext cx="5648400" cy="3773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 rot="10800000">
            <a:off x="457200" y="449532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905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Wyoming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33520"/>
            <a:ext cx="487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mall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de Jewel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jewelrymall.com/stones/j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590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type of gem that could be found in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 Green River"/>
          <p:cNvPicPr/>
          <p:nvPr/>
        </p:nvPicPr>
        <p:blipFill>
          <a:blip r:embed="rId1"/>
          <a:stretch/>
        </p:blipFill>
        <p:spPr>
          <a:xfrm>
            <a:off x="0" y="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33412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een River, Wy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80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257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ostcard with a (beautiful) view on the c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0" y="-360"/>
            <a:ext cx="61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.jhuapl.edu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 Shaded Relief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rmi.jhuapl.edu/states/maps1/wy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haded relief map of the state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660033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343400" cy="420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254560"/>
            <a:ext cx="3733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learning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522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yoming’s state bird—the Western Meadowl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33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Wyoming State Flower: Indian Paintbrush"/>
          <p:cNvPicPr/>
          <p:nvPr/>
        </p:nvPicPr>
        <p:blipFill>
          <a:blip r:embed="rId1"/>
          <a:stretch/>
        </p:blipFill>
        <p:spPr>
          <a:xfrm>
            <a:off x="1676520" y="53352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51814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state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netstate.com/states/symb/flowers/wy_indian_paintbrush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21932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yoming’s state flower--the Indian Paintbru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44Z</dcterms:created>
  <dc:creator>install</dc:creator>
  <dc:description/>
  <dc:language>en-US</dc:language>
  <cp:lastModifiedBy>install</cp:lastModifiedBy>
  <dcterms:modified xsi:type="dcterms:W3CDTF">2012-04-16T13:05:18Z</dcterms:modified>
  <cp:revision>10</cp:revision>
  <dc:subject/>
  <dc:title>Slide 1</dc:title>
</cp:coreProperties>
</file>